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711-A143-4CF8-A51B-9170549E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B3A-CC96-45AD-A28C-A2C93C5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DCE-8948-496A-83A0-55486F5C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64D-EA95-49A7-ABCF-1FA352EC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421-431D-43D8-9C0C-847CDA76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DEF-DCC6-49D0-9B90-3A03CEB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7412-68A1-4882-814F-23B2202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B923-BF07-4DA0-A279-A3C94C7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B57B-9D20-4AD3-A61F-69686287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E0B0-EDF4-418B-A517-06B4685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8B7-FA60-4E3F-B6A9-D1B2AF7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D0D-93FC-47EC-A61C-3222AAD7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16AC-07A0-45BB-AE38-DF286C28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A22-298D-448A-932C-50ADEB99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A449-2DAD-4C5D-A536-9781B08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2949-469F-44D9-A555-C1DA718E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CAC6-6914-42FF-B39A-823B850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0624-ACF9-4771-AAB4-1ADB0090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5859-35A0-4430-9434-ECECC45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B146-FE5B-4A4E-A82B-CF2CD509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58A8-76EC-4B50-BE9C-733085C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5D2B-B5ED-4764-B0F4-8D81120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CEF-D3CD-44C9-B89A-879DB01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4C25-9846-4EBE-931B-19053C74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D131-4A70-46D3-8140-5BD7B5F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C85E-36D6-461F-A0EA-DA2F74F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B939-1A05-4AAD-B8AE-891BC84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EABD-80E2-4F30-A79D-5D86CD0F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594E-169A-46E5-ABEA-A0AF64D6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65E1-662F-467B-9C0A-4E80DF18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03D9-8995-4AD8-9E03-D47C99EC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2A04-EC49-4177-A0C5-E73DB12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23BD-17EF-49FE-950A-7A804EB3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897-FC0E-46C8-9D13-D9102B4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925A-C445-4CD1-B826-A21C7D91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6869-67AF-452B-AF3A-E31DE0F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5B08-32FC-434D-8ED8-C902F0AC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72AB-1FDE-436B-A8F7-F2B7DAA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4BBE-397C-4A0A-8A76-DFDA84F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0FB5-D363-45A9-9ACE-7D115A1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C010-4713-4519-8202-B44D901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AA2D-F2DD-4677-AF6F-730FF4F7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8A16-2189-46FA-A0CE-2B8F4A22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62C0-3A0E-4490-9D66-3EE67C7D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49A-1586-4AA9-A010-1E7384B1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9928-2B76-46AD-8252-C361D4C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733F-21F1-4E90-AAF2-30B1373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2144-7DA6-4A34-A989-4EFACF8A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9F62-1196-4179-ADB6-2226CB70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AB9D-94D9-4474-9DA0-DBEDEF1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68A8-ED2C-457A-B2D4-266E77A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8D7B-00B1-4296-AF9E-713F6B5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87CC-BC89-45D5-9C7E-35BD1806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8AD5-B262-461E-A84C-3442F02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5D17-70CB-453C-A160-5E64323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8F7-DAAE-4DAB-B1F7-AFE4B1A8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4D1D-7C07-41CA-A0A2-5B7DCD14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6E5A-0936-4341-922B-B8F9CD34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4923-F61D-4780-B138-9B09BA73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09E7-F907-4987-B5C3-B813AD3E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84799-7B28-4915-9FD4-48E8A25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582D-7157-4225-BCC0-5023AEE7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399E-1E44-4A13-9D26-B07E20D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EFFD-4A4E-4C71-997E-BBAFDE5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1C1A-1271-4C76-A52E-642891E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39B1-3370-426E-B71A-CA2DD46A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CB8-AE45-4507-A83F-6C7061B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34E7-203C-4EA9-BBBD-EEDE8BB5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D0D4-7A20-4781-8959-A8E12592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394A-792C-4BE2-90EC-64601698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39F8-9819-4295-B707-BD0BA678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0F033-83A6-44B3-B28A-20A04D1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C75A-C5A0-4308-A22D-BDAAFACB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FB15-76B6-48FC-B12B-B9322EEF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B4F2-4EB1-4A6A-A928-513547DB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44AF-2E1E-4956-AFB7-6F40961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1EC5-BEC6-4D33-8AC7-8FFCE97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EC3-4D8F-46BF-A9D6-F0F03EC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1E28-EA96-40B7-9713-1298F5D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63809-13F4-4AE3-98F7-D27D6EA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EB08-43DF-40BC-B0A0-6FB3E38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0623-B735-412D-8B29-A097F289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4DDB-C7B3-48EB-9550-45478B9D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E35-1CAC-454D-8D5B-03660C7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5AF-662E-4661-9BA6-2384481F0DB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808-7979-4A32-A7EE-1CE724B6FA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23C-0FB4-409E-AC91-D436084C910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D715-8343-4CDC-AE89-D3AA48E2880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04E-47DD-4ABC-B145-5D69405194C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AFC-EBB1-4E24-BCB7-EF1DA8B202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E329-3860-44D9-A648-774B58510A4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CB4C-9DC2-4776-8285-28F200D002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BC3-E393-4F72-9786-84C9C4CC90A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6E0-D6DB-42D4-99A6-DF810E93A4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E05-B6F7-4951-9453-8ED9219C18F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240B-A1A0-43A6-89EE-8E389DF143D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29D-C33B-4A2D-8A82-51E6867BC9A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D7B-B868-4E3E-9EF9-443933A6DA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8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A95C-5482-4834-AE56-5CE6C72DADE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6902-A05B-4526-AE27-3686A84F239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Rectangle 6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проф др Светлана милетић Дракул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39B-4EE9-4CCF-BE46-44F87728BD6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055F-4498-4D75-B2EC-20697E1B51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1eeff"/>
                </a:solidFill>
                <a:latin typeface="Consolas"/>
              </a:rPr>
              <a:t>Синдроми оштећења кичмене мождине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rbel"/>
              </a:rPr>
              <a:t>Нагло настао пресек кичмене мождине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1.  фаза  спиналног шока, око 3-4 седмице), угашене функције кичмене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Corbel"/>
              </a:rPr>
              <a:t>Угашен сензибилитет за све квалитете</a:t>
            </a: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 од повређеног сегмента наниж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литава одузетост испод лезије ,атонија, угашени рефлекс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тенција мокраће, бешика проширена, атонична, паралитички илеус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2. друга фаза, успостављају се функције к.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Појачани мишићни рефлекси, повишен тонус, одузетих екстремитет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флексна неурогена бешика-аутоматско пражњењ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асивни рефлексни одговор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297-0976-4491-AC7E-DDB177356BC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C5A1-9E3B-46EE-86FC-B445195C79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300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Brown-Sequardov sindrom</a:t>
            </a:r>
            <a:br>
              <a:rPr sz="2800"/>
            </a:b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(хемисекција-пресек половин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На страни лез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1. Слабост 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2. О</a:t>
            </a:r>
            <a:r>
              <a:rPr b="1" lang="sr-CS" sz="2400" spc="-1" strike="noStrike">
                <a:solidFill>
                  <a:srgbClr val="ffffff"/>
                </a:solidFill>
                <a:latin typeface="Corbel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дубоког сензибил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2A0-B0C7-4AC2-B3D8-AAA4A593220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AA9-465A-4675-B75D-246253E330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410080" y="160020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тра ст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О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спино-таламицки п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не ос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 бол, топло, хладн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C99-4C4B-4EC6-8D50-5A7A1308443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3D3-C841-40B3-9D1B-6137938EC6E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2" descr="spinalcord23"/>
          <p:cNvPicPr/>
          <p:nvPr/>
        </p:nvPicPr>
        <p:blipFill>
          <a:blip r:embed="rId1"/>
          <a:stretch/>
        </p:blipFill>
        <p:spPr>
          <a:xfrm>
            <a:off x="2104920" y="100080"/>
            <a:ext cx="4934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редњи синдром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040" y="1784520"/>
            <a:ext cx="603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-синдром а спиналис ан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одузетост (обострани пирамидни пу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исини испод лезије постоји дисоцијација сензибилитета (губитак за бол, т 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сфинктера и импотенцијом (обострана вазомоторна парализа испод места оштећ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6CE-7A16-40E4-9706-617CBC5F105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787-6AD3-4CF3-823F-04C37B9451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6748560" y="9698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25" name="Arrow: Right 6"/>
          <p:cNvSpPr/>
          <p:nvPr/>
        </p:nvSpPr>
        <p:spPr>
          <a:xfrm>
            <a:off x="6084720" y="3284640"/>
            <a:ext cx="574920" cy="14436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оштећење средњих делова</a:t>
            </a:r>
            <a:br>
              <a:rPr sz="4000"/>
            </a:b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рингомијелиј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оштећење спиноталамичког(боли т) у одговарајућим дерматомо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4A87-8109-4C35-B7F3-CB9A8399918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8D2-9749-4F77-8A79-BC9C06A2546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6105600" y="28526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31" name="Arrow: Right 6"/>
          <p:cNvSpPr/>
          <p:nvPr/>
        </p:nvSpPr>
        <p:spPr>
          <a:xfrm flipV="1">
            <a:off x="5011560" y="3677400"/>
            <a:ext cx="719280" cy="3574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централна </a:t>
            </a: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ш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упљина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040" y="1784520"/>
            <a:ext cx="502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Ц6-8, Тх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: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јена, интрамедуларних тумо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цује спино-талам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 који се укр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 ос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у бол, тепературу на рукам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ИРИНГОМИЈЕЛИТИ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 ДИСОЦИЈАЦИЈА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сензибилите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49E-CC14-4372-8586-48A15C1FD1D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D16-50B3-40B0-A2E6-2D477D00F7E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6300720" y="1784520"/>
            <a:ext cx="28432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упљина вр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и притисак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редње рогове-ПМН-у миотомима на Г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ирамидни пут на нога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сензитивне путев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ирингобулбиа (о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тећује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нзитивна једра  н. тригеминуса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сирогомијел. дисоцијације с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зибилитета на лицу-Зелдерови прстенови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F85-1789-481B-ADF7-A0CB4B629F1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E73-5B2E-4816-8231-0A0A3F5C33D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мптоми оштећења задњих фуникула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задњих фуникула(табес дорсалис, фуникуларна мијелоза, мултипла склероза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дубоког сензибилитета(лак додир, тактилну дискриминацију, добоки положајни,  вибрациони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лавабоа, прсти који свирају клавир, Ромберг са затвореним очим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F6A-C91B-40D2-ACF2-4156786BFEE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3F6B-083A-47D7-918D-E9332CADC8E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узроци оштећења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исхемички инфаркти, крварењ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запаљенске лезије(мијелитис, епидурални апцес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тумори кичмене мождин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ултипла склероза, васкулит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отрузија диску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спондилоз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A06-4ECF-47F7-ABE3-D6560D148EB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F22-916B-4E85-B03A-71F421BB120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E10A-9A5B-4967-8B44-B7F14FC7805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5C6-AEF7-494F-9D35-AD86B7CABF1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4" descr="N9_15S"/>
          <p:cNvPicPr/>
          <p:nvPr/>
        </p:nvPicPr>
        <p:blipFill>
          <a:blip r:embed="rId1"/>
          <a:stretch/>
        </p:blipFill>
        <p:spPr>
          <a:xfrm>
            <a:off x="1547640" y="907920"/>
            <a:ext cx="64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дијагно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нуклеарна магнетна резонанца НМ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еглед ликво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СЦ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ЕМНГ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Биопс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CDD6-B55D-4FC6-9858-BFA4D38E993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D6F2-741E-4D48-9E2A-AE9BE90FA3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3" descr="spinalcord36"/>
          <p:cNvPicPr/>
          <p:nvPr/>
        </p:nvPicPr>
        <p:blipFill>
          <a:blip r:embed="rId1"/>
          <a:stretch/>
        </p:blipFill>
        <p:spPr>
          <a:xfrm>
            <a:off x="6588000" y="2349360"/>
            <a:ext cx="18590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63CF-DEEF-4AAB-9E75-4E6BA2D0425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8B1-B6C4-4D44-B8E1-E1117C8E47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Object 2"/>
          <p:cNvGraphicFramePr/>
          <p:nvPr/>
        </p:nvGraphicFramePr>
        <p:xfrm>
          <a:off x="1143000" y="533520"/>
          <a:ext cx="7238880" cy="556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72388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57B1-4A86-41BD-864A-82642082C9E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5C7-B1F1-4B2C-87C5-C49BF1F9A50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400680" y="549360"/>
            <a:ext cx="352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површинс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, температ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ксуалне сензациј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23C-0338-4E51-BD2D-87E17CC92DE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67B-9753-492A-B5E6-9B476E627CE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2" descr="Untitled-12"/>
          <p:cNvPicPr/>
          <p:nvPr/>
        </p:nvPicPr>
        <p:blipFill>
          <a:blip r:embed="rId1"/>
          <a:stretch/>
        </p:blipFill>
        <p:spPr>
          <a:xfrm>
            <a:off x="3851280" y="0"/>
            <a:ext cx="3978360" cy="69087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393840" y="47628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дубо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вибрација, пасивни покре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глобна и дискриминација две тачк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DAC-74C2-4AFB-80F1-63F7420CBDA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01E2-7E13-4510-BA9F-CF450DF092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spinalcord12"/>
          <p:cNvPicPr/>
          <p:nvPr/>
        </p:nvPicPr>
        <p:blipFill>
          <a:blip r:embed="rId1"/>
          <a:srcRect l="0" t="22146" r="0" b="0"/>
          <a:stretch/>
        </p:blipFill>
        <p:spPr>
          <a:xfrm>
            <a:off x="0" y="152280"/>
            <a:ext cx="5105520" cy="642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spinalcord13"/>
          <p:cNvPicPr/>
          <p:nvPr/>
        </p:nvPicPr>
        <p:blipFill>
          <a:blip r:embed="rId2"/>
          <a:stretch/>
        </p:blipFill>
        <p:spPr>
          <a:xfrm>
            <a:off x="4714920" y="380880"/>
            <a:ext cx="442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висинска локализација лезиј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астична квадриплегиј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во сензибилитета Ц1-Ц4-лезија изнад вратне интумесцен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миотрофични синдром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итава одузетост руку, спастична одузетост ногу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параплегиј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зија торакалне кичме између интумесценц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литава параплегија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 лумбалне интумесценц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40ED-0566-4948-8AA9-461FB7CF39E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467-0C38-4EA4-90A1-C20D57FEC22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8803"/>
                </a:solidFill>
                <a:latin typeface="YUDutchR"/>
              </a:rPr>
              <a:t>Sindrom conus medularis-a i caudae equinae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440" y="7617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ндром конуса почиње нагло са билатералном презентациј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понтани бол редак и благ у перинеуму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мишићне слабости 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одсутне или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незна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тне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, симетричне, ретке фасцикулациј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метрична дисоцијација сензибилитета, губитак  за бол и температурне дражи а очуван за додир у перианогениталној, седластој дистрибуциј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пателарни и ахилови рефлекси очуван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инцонтинентио уринае ет алви од самог почетк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оштећена мушка сексуална функциј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6854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индром кауде еквине почиње постепено и једнострано, а затим асиметрично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понтани бол је јак, радикуларни и асиметрича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мишићне парализе су тешке, асиметричне, фасцикулације уочљив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асиметричан испад површног сензибилитета седласте дистрибуције, без дисоцијациј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ателарни и ахилови рефлекси могу бити угашен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функције сфинктера се јавља касније и у блажој мер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мушке сексуалне функције блаже израже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9FC-9BAA-49E8-A59C-5BBF8DA30C3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D57E-118D-4958-9C9E-AA935F9277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738-F994-40C2-A702-BA3D3CA3930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E8D-88A3-4AED-B171-5AA783B315A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13:20Z</dcterms:modified>
  <cp:revision>94</cp:revision>
  <dc:subject/>
  <dc:title>PowerPoint Presentation</dc:title>
</cp:coreProperties>
</file>